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A69-9AD2-4345-B74E-6985A073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31E-F3EA-4E52-8896-3D52CD9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D32-D776-4FA0-9095-E70B5BCA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9A0-E2B3-41C0-B457-D66AE09E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A7C2-D84D-4F70-B680-48528C7D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8832-C0BF-4EB4-A11C-259F28E6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C1A2-325B-47BE-B6C8-66BCFF8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783-3A3E-4056-9E1E-8B7A8B7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57FE-EE7B-4019-873D-D8CEF99D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0A30-7D7D-4B8A-95DA-CDA1D7A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3DF1-675C-43F8-AF03-CD4616B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33D-C8AE-4F4C-A396-B252BFFF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854-D9FA-4A45-9C26-5C2DFD0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07A-FAD3-4976-A014-2736A35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3FA-6A5F-4A09-8A42-D5E6042F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9913-AA75-48CC-8AB2-8BA4E2E8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A3B-A8E8-4EE8-AF26-1EB30674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288-C543-48A8-9E5E-07A1E50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59D-BB83-4C04-98FB-3A305AF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259-B004-4399-A31D-304E7D3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71A-5E10-41C2-8E15-2CA3730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09D-18C7-46B4-844E-73043E4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4A4-02B0-49D0-BE40-689D7B3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80F-DFAF-419A-9E74-A241379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D0F7-B8DB-4052-9AE9-1078EE7CA5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C14A-97C3-4B97-90A2-9ADF67DAAF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АМИКА ТРОШКОВ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81882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Трошкови представљају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овчано изражене утрошке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рада и сред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ласификациј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и већи број класификација у зависности од критер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ски апс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ћност контр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Динамик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акција трошкова на промену обима активности (производња или пружање услуг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а овом критеријума трошкови се деле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кс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јабил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лативно-фикс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уп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Јединич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рош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Picture 41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788364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Варијабил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њају се са променом обима активности. Директно су пропорционални обиму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аријабил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помоћног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енерг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редстава за рад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55480" y="1841400"/>
            <a:ext cx="81424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Релативно 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 карактер константности до одређеног обима активности, након чега се мења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лативно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рад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пецијалних ал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9T23:35:28Z</dcterms:modified>
  <cp:revision>165</cp:revision>
  <dc:subject/>
  <dc:title>Soft and Hard Skills Development: A Current Situation in Serbian Companies</dc:title>
</cp:coreProperties>
</file>